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AA58-2B4C-45BA-9DDE-959413D6B9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068F-ECAA-408E-961D-4FFE8FA8ACD1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0D81-B741-4038-AD2B-7158F880D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4F06-4166-48B3-9EED-5BEFF31B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99FF-BCAB-433E-AC41-ED665D0C8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9B60-2A72-4AA8-99C5-14B4B83AF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06FA-41C4-4B7A-BDD6-EAB01C48F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ED95-2662-4BAD-ADEE-CB90FCE9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E331-0434-417A-9582-F86145A0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B47E-3A29-42E9-8C29-63630A60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129D-EE34-470B-86FB-EEAEAD89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F465-C189-4BCC-ADAE-AC56E75B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3030-7B15-48E3-96A6-96E88C73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0318-D3A1-47A6-A548-377F356F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28A6-4D1C-43CD-9C20-8EF46C50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6E9E-2F00-4602-A678-2A7D9342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52B7-2D52-4280-B4FE-BA026BC1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DF07-7D5E-4E19-B5B0-CFE0E0F29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8194-0239-4E00-92D3-028454BB1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3B991-26A5-4923-B7E7-13F4E1594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EC8D6-B0D3-4645-BB00-668FEB76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9B99D-DD7E-4783-A416-8FEBE0E9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FE298-2BF6-4CCE-BD20-272569A4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62EB3-56AE-4068-988A-860E79C9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046E-3592-49D2-A168-F7A22CE2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6E071-2BB5-4487-AE38-05F72A06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8BF96-155E-4065-9068-972559FC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8B13B-EAF9-45A2-861E-6128C794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9AC83-9A27-4F09-A269-A7494DCA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1BCA7-21BF-4EB8-810B-FDD25CAA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B34D4-815F-48D8-A8D1-41D6E3F0C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BFF2E-ABBB-4AF0-BA56-77711EA9D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7F79A-88B1-42EC-A074-9CA314679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998AF-61A7-4881-949B-E38C9F58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809DB-FA0F-4CE0-A0F9-13482BFD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89A2-6622-431A-A258-376F07D4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D93CE-FB80-48DE-9DBA-E2137795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9B72E-B912-4B1C-92D1-11D2F2F7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503B2-CE08-4573-9F90-BE3F3633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238F9-B72C-40E3-AEAB-C046BF03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F4953-48BC-4EA8-970F-08C519AD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4194F-8D1E-4958-9AE9-B3AA1C61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17E77-D400-4B89-B4FD-9B577CE6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C40C7-5363-4BCC-BF31-45C98CFE5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71817-E693-45F8-823D-38C42D80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AC561-223F-4432-8E2F-1E603F2C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AF33-35A9-4C94-94AA-141CF88E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BA8E2-E6A8-4069-8247-56BD2653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7E3F8-1EC5-4A91-BF00-E01B16D3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42517-F4E9-400B-968F-494B9EA1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218B8-7B94-4FE9-8A27-54030FD9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4E047-CC9A-4A35-B582-C3EFB0AF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9ECC6-A098-49AC-AF12-864F37D5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2BD77-CB4E-4CD5-8917-A3A0A138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EF158-CFF4-4139-8F72-FAE2BD8C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1CF80-0FBF-4A1B-AD23-C54C310D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84B44-5C77-49A5-8A2E-7BE4733AB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ED18-1A24-4EFD-9C69-9BD782F2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BBD6F-0874-4011-81D5-F9D14C5C7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D6B6-49F1-441E-BF34-DDFC334D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4CD3-D635-4C9F-9827-7B471B54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0A5F-35A2-4C73-AB9E-7879B629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F690-A7A7-4177-B0B2-FF0E266F66B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4195-87EE-4564-B169-910E5139D25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6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97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007D-EA5E-4887-8233-63C1CBD6762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4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14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14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8D52-B5DA-462C-985A-EBBD871FFC9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9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8118-CA3A-4E21-AD82-49F7E4D4E14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254240" y="331920"/>
            <a:ext cx="7412760" cy="748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ГОДУ (318,85 млн.руб.)</a:t>
            </a:r>
            <a:endParaRPr b="1" lang="en-US" sz="17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7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8:13Z</dcterms:modified>
  <cp:revision>160</cp:revision>
  <dc:subject/>
  <dc:title>Структура собственных доходов на 2016 год бюджета Дальнереченского городского округа</dc:title>
</cp:coreProperties>
</file>